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67A-6509-4FF1-B4CC-38CD215C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CF6-4F05-4B50-90DD-BABF2570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E91-D0A5-4413-AE20-7F5198D0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470-7A6D-4EBA-BBC7-B0B94401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9D1-BB08-4478-A714-C442AFFC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6C7-FF37-4F7B-B93B-5ACDB667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995-7C3F-4E5F-983F-C2E479D6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1E5-805C-4276-8D1C-5BF6300C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034-0179-4B4A-BD4B-03735A77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C1E-E299-4E32-9A53-90EA6A26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E01-6F32-4AE8-9E72-6D2DC0A7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527-41D7-41A8-8ED3-DE2E3716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CB0-D868-42E2-A2DB-5312C7845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203480" y="731880"/>
            <a:ext cx="626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47920" y="380880"/>
            <a:ext cx="594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oper Black"/>
              </a:rPr>
              <a:t>Order of Operations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-7920" y="-106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-7920" y="-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5" name="Rectangle 45"/>
          <p:cNvSpPr/>
          <p:nvPr/>
        </p:nvSpPr>
        <p:spPr>
          <a:xfrm>
            <a:off x="0" y="1606680"/>
            <a:ext cx="9144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46" name="Picture 48" descr="C:\Documents and Settings\Owner\Application Data\Microsoft\Media Catalog\Downloaded Clips\cl0\AG00314_.gif"/>
          <p:cNvPicPr/>
          <p:nvPr/>
        </p:nvPicPr>
        <p:blipFill>
          <a:blip r:embed="rId1"/>
          <a:stretch/>
        </p:blipFill>
        <p:spPr>
          <a:xfrm>
            <a:off x="3048120" y="3352680"/>
            <a:ext cx="2614320" cy="3124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9"/>
          <p:cNvSpPr/>
          <p:nvPr/>
        </p:nvSpPr>
        <p:spPr>
          <a:xfrm>
            <a:off x="1447920" y="2895480"/>
            <a:ext cx="152388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( )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8" name="Text Box 50"/>
          <p:cNvSpPr/>
          <p:nvPr/>
        </p:nvSpPr>
        <p:spPr>
          <a:xfrm>
            <a:off x="5715000" y="2971800"/>
            <a:ext cx="1143000" cy="1617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oper Black"/>
              </a:rPr>
              <a:t>+</a:t>
            </a:r>
            <a:endParaRPr b="0" lang="en-US" sz="10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7238880" y="4648320"/>
            <a:ext cx="1143000" cy="1312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oper Black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0" name="Text Box 52"/>
          <p:cNvSpPr/>
          <p:nvPr/>
        </p:nvSpPr>
        <p:spPr>
          <a:xfrm>
            <a:off x="304920" y="4419720"/>
            <a:ext cx="1447560" cy="16178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Cooper Black"/>
              </a:rPr>
              <a:t>-</a:t>
            </a:r>
            <a:endParaRPr b="0" lang="en-US" sz="10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1" name="Text Box 54"/>
          <p:cNvSpPr/>
          <p:nvPr/>
        </p:nvSpPr>
        <p:spPr>
          <a:xfrm>
            <a:off x="304920" y="380880"/>
            <a:ext cx="1447560" cy="131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4</a:t>
            </a: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2" name="Text Box 55"/>
          <p:cNvSpPr/>
          <p:nvPr/>
        </p:nvSpPr>
        <p:spPr>
          <a:xfrm>
            <a:off x="7238880" y="380880"/>
            <a:ext cx="1371600" cy="143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88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ff99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+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9+1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438280" y="2209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124080" y="320040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Cooper Black"/>
              </a:rPr>
              <a:t>3+</a:t>
            </a:r>
            <a:r>
              <a:rPr b="0" lang="en-US" sz="6600" spc="-1" strike="noStrike" u="sng">
                <a:solidFill>
                  <a:srgbClr val="cc0000"/>
                </a:solidFill>
                <a:uFillTx/>
                <a:latin typeface="Cooper Black"/>
              </a:rPr>
              <a:t>8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-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352680" y="4191120"/>
            <a:ext cx="24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11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-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191120" y="51055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ff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9+1)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+ 6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09680" y="22096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(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)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6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43200" y="31240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Cooper Black"/>
              </a:rPr>
              <a:t>3(10)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+</a:t>
            </a: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276720" y="419112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30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+36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038480" y="50292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228600" y="1295280"/>
            <a:ext cx="8534520" cy="5181840"/>
          </a:xfrm>
          <a:prstGeom prst="flowChartMerge">
            <a:avLst/>
          </a:prstGeom>
          <a:solidFill>
            <a:srgbClr val="ccff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5 x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6-2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09680" y="22096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5 x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200400" y="34290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8000" spc="-1" strike="noStrike">
                <a:solidFill>
                  <a:srgbClr val="cc0000"/>
                </a:solidFill>
                <a:latin typeface="Cooper Black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809880" y="45720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24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ffff99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371600" y="1219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 10 x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752480" y="21337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 x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8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514600" y="3124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4+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8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276720" y="42670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84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962520" y="5029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8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e3c7c1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143000" y="121932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 +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76720" y="4191120"/>
            <a:ext cx="2895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7400" y="2666880"/>
            <a:ext cx="49528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981080" y="24382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+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100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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Cooper Black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590920" y="358128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 + 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733920" y="449568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31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cc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0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7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2 x 5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52480" y="22096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0+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49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–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 x 5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362320" y="31240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+49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76720" y="419112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59 - 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038480" y="50292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9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99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43000" y="16002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4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(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  <a:ea typeface="Times New Roman"/>
              </a:rPr>
              <a:t>9 x 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-19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905120" y="25909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64</a:t>
            </a:r>
            <a:r>
              <a:rPr b="1" lang="en-US" sz="7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(</a:t>
            </a:r>
            <a:r>
              <a:rPr b="0" lang="en-US" sz="7000" spc="-1" strike="noStrike" u="sng">
                <a:solidFill>
                  <a:srgbClr val="cc0000"/>
                </a:solidFill>
                <a:uFillTx/>
                <a:latin typeface="Cooper Black"/>
              </a:rPr>
              <a:t>27 </a:t>
            </a:r>
            <a:r>
              <a:rPr b="0" lang="en-US" sz="7000" spc="-1" strike="noStrike" u="sng">
                <a:solidFill>
                  <a:srgbClr val="000000"/>
                </a:solidFill>
                <a:uFillTx/>
                <a:latin typeface="Cooper Black"/>
              </a:rPr>
              <a:t>–19</a:t>
            </a: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)</a:t>
            </a:r>
            <a:r>
              <a:rPr b="0" lang="en-US" sz="7200" spc="-1" strike="noStrike" u="sng">
                <a:solidFill>
                  <a:srgbClr val="ffffff"/>
                </a:solidFill>
                <a:uFillTx/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048120" y="3809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64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6600" spc="-1" strike="noStrike">
                <a:solidFill>
                  <a:srgbClr val="ffffff"/>
                </a:solidFill>
                <a:latin typeface="Cooper Black"/>
              </a:rPr>
              <a:t> </a:t>
            </a: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191120" y="50292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oulder"/>
              </a:rPr>
              <a:t> </a:t>
            </a:r>
            <a:r>
              <a:rPr b="0" lang="en-US" sz="10000" spc="-1" strike="noStrike">
                <a:solidFill>
                  <a:srgbClr val="ffffff"/>
                </a:solidFill>
                <a:latin typeface="Boulder"/>
              </a:rPr>
              <a:t>Have fun doing the Order of </a:t>
            </a:r>
            <a:r>
              <a:rPr b="0" lang="en-US" sz="1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10000" spc="-1" strike="noStrike">
                <a:solidFill>
                  <a:srgbClr val="ffffff"/>
                </a:solidFill>
                <a:latin typeface="Boulder"/>
              </a:rPr>
              <a:t> Operations!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624852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ubway"/>
              </a:rPr>
              <a:t>The </a:t>
            </a:r>
            <a:r>
              <a:rPr b="0" lang="en-US" sz="5400" spc="-1" strike="noStrike">
                <a:solidFill>
                  <a:srgbClr val="ff0066"/>
                </a:solidFill>
                <a:latin typeface="Subway"/>
              </a:rPr>
              <a:t>Order of Operations</a:t>
            </a:r>
            <a:r>
              <a:rPr b="0" lang="en-US" sz="5400" spc="-1" strike="noStrike">
                <a:solidFill>
                  <a:srgbClr val="ffffff"/>
                </a:solidFill>
                <a:latin typeface="Subway"/>
              </a:rPr>
              <a:t> tells us how to do a math problem with more than one operation, in the correct order.</a:t>
            </a:r>
            <a:r>
              <a:rPr b="0" lang="en-US" sz="4400" spc="-1" strike="noStrike">
                <a:solidFill>
                  <a:srgbClr val="ffffff"/>
                </a:solidFill>
                <a:latin typeface="Ravi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C:\Documents and Settings\Owner\Application Data\Microsoft\Media Catalog\Downloaded Clips\cl0\na00647_.wmf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162920" cy="22096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lease </a:t>
            </a: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xcuse </a:t>
            </a: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y </a:t>
            </a: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ear </a:t>
            </a: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unt </a:t>
            </a: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ally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C:\Documents and Settings\Owner\Application Data\Microsoft\Media Catalog\Downloaded Clips\cl0\AG00308_.gif"/>
          <p:cNvPicPr/>
          <p:nvPr/>
        </p:nvPicPr>
        <p:blipFill>
          <a:blip r:embed="rId1"/>
          <a:stretch/>
        </p:blipFill>
        <p:spPr>
          <a:xfrm>
            <a:off x="5334120" y="3048120"/>
            <a:ext cx="2193840" cy="3141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914400" y="3048120"/>
            <a:ext cx="3657600" cy="314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oper Black"/>
              </a:rPr>
              <a:t>This will help to you to remember the order of operations.</a:t>
            </a:r>
            <a:endParaRPr b="0" lang="en-US" sz="4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8"/>
          <p:cNvSpPr/>
          <p:nvPr/>
        </p:nvSpPr>
        <p:spPr>
          <a:xfrm>
            <a:off x="1676520" y="4952880"/>
            <a:ext cx="3657600" cy="2454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dd +                             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Subtract -   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676520" y="3124080"/>
            <a:ext cx="3733560" cy="1783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Multiply    x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Divide 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44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457200" y="1143000"/>
            <a:ext cx="990720" cy="838080"/>
          </a:xfrm>
          <a:prstGeom prst="flowChartConnector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oudy Stout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533520" y="2057400"/>
            <a:ext cx="990360" cy="91440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533520" y="3048120"/>
            <a:ext cx="1066680" cy="1600200"/>
          </a:xfrm>
          <a:prstGeom prst="flowChartConnector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533520" y="4800600"/>
            <a:ext cx="914400" cy="1600200"/>
          </a:xfrm>
          <a:prstGeom prst="flowChartConnector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676520" y="1143000"/>
            <a:ext cx="5333760" cy="825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Parentheses (    ) </a:t>
            </a:r>
            <a:endParaRPr b="0" lang="en-US" sz="48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752480" y="2133720"/>
            <a:ext cx="5029200" cy="1739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Exponents  4</a:t>
            </a: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68" name="Picture 23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6348240" y="3581280"/>
            <a:ext cx="2130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" dur="1" fill="hold"/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80880" y="1447920"/>
            <a:ext cx="8458200" cy="4087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Parentheses (    )</a:t>
            </a: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72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990720" y="3429000"/>
            <a:ext cx="213048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3"/>
          <p:cNvSpPr/>
          <p:nvPr/>
        </p:nvSpPr>
        <p:spPr>
          <a:xfrm>
            <a:off x="2666880" y="2514600"/>
            <a:ext cx="4572000" cy="2133720"/>
          </a:xfrm>
          <a:prstGeom prst="wedgeEllipseCallout">
            <a:avLst>
              <a:gd name="adj1" fmla="val -50069"/>
              <a:gd name="adj2" fmla="val 82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Always do parentheses 1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st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28600" y="1295280"/>
            <a:ext cx="8686800" cy="5945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Cooper Black"/>
              </a:rPr>
              <a:t>Exponents 4</a:t>
            </a:r>
            <a:r>
              <a:rPr b="0" lang="en-US" sz="9500" spc="-1" strike="noStrike">
                <a:solidFill>
                  <a:srgbClr val="000000"/>
                </a:solidFill>
                <a:latin typeface="Cooper Black"/>
              </a:rPr>
              <a:t>3</a:t>
            </a: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77" name="Picture 13" descr="C:\Documents and Settings\Owner\Application Data\Microsoft\Media Catalog\Downloaded Clips\cl0\AG00312_.gif"/>
          <p:cNvPicPr/>
          <p:nvPr/>
        </p:nvPicPr>
        <p:blipFill>
          <a:blip r:embed="rId1"/>
          <a:stretch/>
        </p:blipFill>
        <p:spPr>
          <a:xfrm>
            <a:off x="696960" y="2743200"/>
            <a:ext cx="2502000" cy="35812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4"/>
          <p:cNvSpPr/>
          <p:nvPr/>
        </p:nvSpPr>
        <p:spPr>
          <a:xfrm>
            <a:off x="2895480" y="2514600"/>
            <a:ext cx="4572000" cy="2133720"/>
          </a:xfrm>
          <a:prstGeom prst="wedgeEllipseCallout">
            <a:avLst>
              <a:gd name="adj1" fmla="val -50069"/>
              <a:gd name="adj2" fmla="val 82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Always do Exponents 2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nd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80880" y="1219320"/>
            <a:ext cx="7239240" cy="53305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Multiply    x   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Divide  </a:t>
            </a:r>
            <a:r>
              <a:rPr b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44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82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1295280" y="3809880"/>
            <a:ext cx="1970280" cy="28195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3"/>
          <p:cNvSpPr/>
          <p:nvPr/>
        </p:nvSpPr>
        <p:spPr>
          <a:xfrm>
            <a:off x="3352680" y="2971800"/>
            <a:ext cx="4572000" cy="2819520"/>
          </a:xfrm>
          <a:prstGeom prst="wedgeEllipseCallout">
            <a:avLst>
              <a:gd name="adj1" fmla="val -50069"/>
              <a:gd name="adj2" fmla="val 50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Do multiplication and division 3</a:t>
            </a: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, from left to right.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1219320"/>
            <a:ext cx="8077320" cy="38721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Add +                                 </a:t>
            </a: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Subtract -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1219320" y="3809880"/>
            <a:ext cx="2130480" cy="30481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3"/>
          <p:cNvSpPr/>
          <p:nvPr/>
        </p:nvSpPr>
        <p:spPr>
          <a:xfrm>
            <a:off x="3276720" y="3886200"/>
            <a:ext cx="4572000" cy="2209680"/>
          </a:xfrm>
          <a:prstGeom prst="wedgeEllipseCallout">
            <a:avLst>
              <a:gd name="adj1" fmla="val -50069"/>
              <a:gd name="adj2" fmla="val 503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Do addition and subtraction 4th, from left to right.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Boulder"/>
              </a:rPr>
              <a:t>Let</a:t>
            </a:r>
            <a:r>
              <a:rPr b="0" lang="ja-JP" sz="1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3000" spc="-1" strike="noStrike">
                <a:solidFill>
                  <a:srgbClr val="ffffff"/>
                </a:solidFill>
                <a:latin typeface="Boulder"/>
              </a:rPr>
              <a:t>s Try Some  </a:t>
            </a:r>
            <a:r>
              <a:rPr b="0" lang="en-US" sz="13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13000" spc="-1" strike="noStrike">
                <a:solidFill>
                  <a:srgbClr val="ffffff"/>
                </a:solidFill>
                <a:latin typeface="Boulder"/>
              </a:rPr>
              <a:t> Problems!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0:51:45Z</dcterms:created>
  <dc:creator>Jennifer</dc:creator>
  <dc:description/>
  <dc:language>en-US</dc:language>
  <cp:lastModifiedBy>kim.nelson Nelson</cp:lastModifiedBy>
  <dcterms:modified xsi:type="dcterms:W3CDTF">2011-10-24T05:58:57Z</dcterms:modified>
  <cp:revision>23</cp:revision>
  <dc:subject/>
  <dc:title>PowerPoint Presentation</dc:title>
</cp:coreProperties>
</file>